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855504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 rot="10801200">
            <a:off x="17316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23240" y="662796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Boardworks Ltd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oardworks_logo" descr=""/>
          <p:cNvPicPr/>
          <p:nvPr/>
        </p:nvPicPr>
        <p:blipFill>
          <a:blip r:embed="rId2"/>
          <a:srcRect l="4903" t="7433" r="6936" b="10843"/>
          <a:stretch/>
        </p:blipFill>
        <p:spPr>
          <a:xfrm>
            <a:off x="7924680" y="0"/>
            <a:ext cx="1219320" cy="7444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76520" y="1676520"/>
            <a:ext cx="5486400" cy="2531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S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ful Products from Organic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GANIC CHEM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451640" y="6237360"/>
            <a:ext cx="9525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7220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boiling points of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83772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We have already said that, in general, the bigger the  molecule the higher the boiling poi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085760" y="1676520"/>
            <a:ext cx="6705360" cy="4473360"/>
            <a:chOff x="1085760" y="1676520"/>
            <a:chExt cx="6705360" cy="4473360"/>
          </a:xfrm>
        </p:grpSpPr>
        <p:graphicFrame>
          <p:nvGraphicFramePr>
            <p:cNvPr id="112" name=""/>
            <p:cNvGraphicFramePr/>
            <p:nvPr/>
          </p:nvGraphicFramePr>
          <p:xfrm>
            <a:off x="1085760" y="1676520"/>
            <a:ext cx="6705360" cy="4473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85760" y="1676520"/>
                      <a:ext cx="6705360" cy="447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4362120" y="4724280"/>
              <a:ext cx="26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o. Carbon atoms </a:t>
              </a:r>
              <a:r>
                <a:rPr b="1" lang="en-GB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99880" y="2938320"/>
              <a:ext cx="6667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B.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6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70102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ere are the boiling ranges of some fractions obtained from distillation of petrole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Using the previous graph, estimate the size range of the molecules present in each fr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14400" y="2590920"/>
          <a:ext cx="6095880" cy="35272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iling 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carb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 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ow 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- 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os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- 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 - 2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5683320" y="4038480"/>
            <a:ext cx="9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83320" y="4572000"/>
            <a:ext cx="9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-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83320" y="5099040"/>
            <a:ext cx="9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9-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5611680"/>
            <a:ext cx="12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3-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9132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flammability of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990720"/>
            <a:ext cx="6629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When hydrocarbons burn they are reacting with oxygen in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In general, the smaller the molecule the better it will mix and then react with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14040" y="53352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Flash points are (roughly) the temperature below which you cannot ignite the sub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ere is some flash points data for oil fractions.  Link the molecule to the flash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95280" y="3048120"/>
          <a:ext cx="6096240" cy="2582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ash 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ros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 - 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el 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 - 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 flipV="1">
            <a:off x="3048120" y="4495680"/>
            <a:ext cx="2509560" cy="4492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124080" y="3886200"/>
            <a:ext cx="2509920" cy="4492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809880"/>
            <a:ext cx="2367000" cy="10162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02920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viscosity of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12520" y="1184040"/>
            <a:ext cx="72514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When we pour a liquid the molecules have to pass each other. The easier they do this, the runnier the liquid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he molecules in fuel oil and bitumen may contain up to 400 carbon atoms in long chain 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hese chains easily become entangled reducing the runniness of the liquid and so those made up of big molecules tend to be viscous (treacly) not run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19320" y="914040"/>
            <a:ext cx="695952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In contrast, small molecules are more spherical and tend not to get tang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hey are therefore likely to have a low viscosity (be runn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49240" y="3352680"/>
            <a:ext cx="7685280" cy="2473200"/>
            <a:chOff x="849240" y="3352680"/>
            <a:chExt cx="7685280" cy="2473200"/>
          </a:xfrm>
        </p:grpSpPr>
        <p:sp>
          <p:nvSpPr>
            <p:cNvPr id="133" name=""/>
            <p:cNvSpPr/>
            <p:nvPr/>
          </p:nvSpPr>
          <p:spPr>
            <a:xfrm>
              <a:off x="4907160" y="3352680"/>
              <a:ext cx="3627360" cy="246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9240" y="3358800"/>
              <a:ext cx="3627720" cy="246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789280" y="3760560"/>
              <a:ext cx="1314720" cy="1315080"/>
              <a:chOff x="2789280" y="3760560"/>
              <a:chExt cx="1314720" cy="131508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2852640" y="3892320"/>
                <a:ext cx="1176120" cy="1175760"/>
                <a:chOff x="2852640" y="3892320"/>
                <a:chExt cx="1176120" cy="117576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852640" y="3892320"/>
                  <a:ext cx="261720" cy="261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04920" y="4044600"/>
                  <a:ext cx="262080" cy="261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157200" y="4196880"/>
                  <a:ext cx="262080" cy="261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309840" y="4349160"/>
                  <a:ext cx="261720" cy="261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462120" y="4501800"/>
                  <a:ext cx="262080" cy="261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614400" y="4654080"/>
                  <a:ext cx="262080" cy="261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767040" y="4806360"/>
                  <a:ext cx="261720" cy="261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3029040" y="3760560"/>
                <a:ext cx="158760" cy="158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81320" y="3912840"/>
                <a:ext cx="158760" cy="158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333600" y="4065120"/>
                <a:ext cx="158760" cy="158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486240" y="4217760"/>
                <a:ext cx="158760" cy="158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32120" y="3781080"/>
                <a:ext cx="158760" cy="158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789280" y="4000320"/>
                <a:ext cx="158760" cy="158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41560" y="4152600"/>
                <a:ext cx="158760" cy="158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094200" y="4304880"/>
                <a:ext cx="158760" cy="158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0905000">
                <a:off x="3245760" y="4457160"/>
                <a:ext cx="158760" cy="158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3395880" y="4367520"/>
                <a:ext cx="708120" cy="708120"/>
                <a:chOff x="3395880" y="4367520"/>
                <a:chExt cx="708120" cy="708120"/>
              </a:xfrm>
            </p:grpSpPr>
            <p:sp>
              <p:nvSpPr>
                <p:cNvPr id="154" name=""/>
                <p:cNvSpPr/>
                <p:nvPr/>
              </p:nvSpPr>
              <p:spPr>
                <a:xfrm rot="10905000">
                  <a:off x="3637800" y="4369680"/>
                  <a:ext cx="158760" cy="158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0905000">
                  <a:off x="3790080" y="4521960"/>
                  <a:ext cx="158760" cy="158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0905000">
                  <a:off x="3942720" y="4674600"/>
                  <a:ext cx="158760" cy="158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rot="10905000">
                  <a:off x="3920400" y="4885560"/>
                  <a:ext cx="158760" cy="158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10905000">
                  <a:off x="3398040" y="4609440"/>
                  <a:ext cx="158760" cy="158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10905000">
                  <a:off x="3550680" y="4761720"/>
                  <a:ext cx="158760" cy="158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rot="10905000">
                  <a:off x="3702960" y="4914360"/>
                  <a:ext cx="158760" cy="158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" name=""/>
            <p:cNvGrpSpPr/>
            <p:nvPr/>
          </p:nvGrpSpPr>
          <p:grpSpPr>
            <a:xfrm>
              <a:off x="5102280" y="4128840"/>
              <a:ext cx="682560" cy="738360"/>
              <a:chOff x="5102280" y="4128840"/>
              <a:chExt cx="682560" cy="738360"/>
            </a:xfrm>
          </p:grpSpPr>
          <p:sp>
            <p:nvSpPr>
              <p:cNvPr id="162" name=""/>
              <p:cNvSpPr/>
              <p:nvPr/>
            </p:nvSpPr>
            <p:spPr>
              <a:xfrm>
                <a:off x="5165640" y="4224240"/>
                <a:ext cx="262080" cy="26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17920" y="4376520"/>
                <a:ext cx="262080" cy="262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470560" y="4529160"/>
                <a:ext cx="261720" cy="261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313240" y="4192560"/>
                <a:ext cx="158760" cy="158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146560" y="4128840"/>
                <a:ext cx="158760" cy="158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102280" y="4346640"/>
                <a:ext cx="158400" cy="158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65520" y="4344840"/>
                <a:ext cx="158760" cy="158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618160" y="4497480"/>
                <a:ext cx="158760" cy="158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26080" y="4708440"/>
                <a:ext cx="158760" cy="158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54560" y="4498920"/>
                <a:ext cx="158760" cy="158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06840" y="4651200"/>
                <a:ext cx="158760" cy="158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993960" y="4431960"/>
              <a:ext cx="220824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Bigger molecu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igher visco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reacl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32720" y="4062240"/>
              <a:ext cx="260028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maller molecu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wer visco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unn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502920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viscosity of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792468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ere are the viscosities of 5 hydrocarb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he higher the value the less runny the hydrocarbon is.  Draw arrows joining  the hydrocarbon with the appropriate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5800" y="2971800"/>
          <a:ext cx="7619760" cy="3105000"/>
        </p:xfrm>
        <a:graphic>
          <a:graphicData uri="http://schemas.openxmlformats.org/drawingml/2006/table">
            <a:tbl>
              <a:tblPr/>
              <a:tblGrid>
                <a:gridCol w="3538800"/>
                <a:gridCol w="1541160"/>
                <a:gridCol w="253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carb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cosity (c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ane  -  C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ne -  C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ptane  - C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ane  - C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ane  - C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3886200" y="3886200"/>
            <a:ext cx="2341440" cy="74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809880" y="3886200"/>
            <a:ext cx="24307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886200" y="4343040"/>
            <a:ext cx="2378160" cy="50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5410080"/>
            <a:ext cx="2322360" cy="3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86200" y="5333760"/>
            <a:ext cx="2305080" cy="50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olour of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685440"/>
            <a:ext cx="7628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Small hydrocarbon molecules are gases or  transparent liqu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As the molecules get larger the colour becomes increasingly yellow through to the brown/black  colour of bitumen used on roads and roof repa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351080" y="3124080"/>
            <a:ext cx="6646680" cy="2716200"/>
            <a:chOff x="1351080" y="3124080"/>
            <a:chExt cx="6646680" cy="2716200"/>
          </a:xfrm>
        </p:grpSpPr>
        <p:pic>
          <p:nvPicPr>
            <p:cNvPr id="186" name="oilcolour" descr=""/>
            <p:cNvPicPr/>
            <p:nvPr/>
          </p:nvPicPr>
          <p:blipFill>
            <a:blip r:embed="rId1"/>
            <a:stretch/>
          </p:blipFill>
          <p:spPr>
            <a:xfrm>
              <a:off x="1496880" y="3573360"/>
              <a:ext cx="382284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bitumen" descr=""/>
            <p:cNvPicPr/>
            <p:nvPr/>
          </p:nvPicPr>
          <p:blipFill>
            <a:blip r:embed="rId2"/>
            <a:stretch/>
          </p:blipFill>
          <p:spPr>
            <a:xfrm>
              <a:off x="5348160" y="3597120"/>
              <a:ext cx="14223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351080" y="3124080"/>
              <a:ext cx="6646680" cy="39888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creasing size of molecules </a:t>
              </a:r>
              <a:r>
                <a:rPr b="0" lang="en-GB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1500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omposition of fraction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09316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We already know that each petroleum fraction consist of hydrocarbon molecules falling within a particular size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he proportions of the different hydrocarbons present in oil can vary greatly across the worl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It is therefore not surprising that the exact nature of the fractions collected will vary both in amount and detailed com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Nonetheless most crude oil will give rise to some quantity of each type of fr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33360" y="1058760"/>
            <a:ext cx="815832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143000" y="609120"/>
            <a:ext cx="647712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Using viscosity data for crude oil from different areas of the world, arrange the oils putting those with the smallest molecules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19320" y="2438280"/>
          <a:ext cx="6095880" cy="3178080"/>
        </p:xfrm>
        <a:graphic>
          <a:graphicData uri="http://schemas.openxmlformats.org/drawingml/2006/table">
            <a:tbl>
              <a:tblPr/>
              <a:tblGrid>
                <a:gridCol w="2830320"/>
                <a:gridCol w="1233360"/>
                <a:gridCol w="2032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cosity (c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udi Arab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 (Bren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way (Gulifak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k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ys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4572000" y="5105520"/>
            <a:ext cx="2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51480" y="3695760"/>
            <a:ext cx="2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62640" y="4165560"/>
            <a:ext cx="2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57600" y="4635360"/>
            <a:ext cx="2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67320" y="3225960"/>
            <a:ext cx="2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838080"/>
            <a:ext cx="7467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lide contains teacher’s notes wherever this icon is displayed -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ccess these notes go to ‘Notes Page View’ (PowerPoint 97) or ‘Normal View’ (PowerPoint 200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ptoolbar" descr=""/>
          <p:cNvPicPr/>
          <p:nvPr/>
        </p:nvPicPr>
        <p:blipFill>
          <a:blip r:embed="rId1"/>
          <a:stretch/>
        </p:blipFill>
        <p:spPr>
          <a:xfrm>
            <a:off x="5029200" y="2666880"/>
            <a:ext cx="2913120" cy="468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4804920" y="350532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Normal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257800" y="320040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23640" y="350532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Notes Page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819520" y="320040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720" y="228600"/>
            <a:ext cx="2398320" cy="459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eacher’s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p97toolbar" descr=""/>
          <p:cNvPicPr/>
          <p:nvPr/>
        </p:nvPicPr>
        <p:blipFill>
          <a:blip r:embed="rId2"/>
          <a:stretch/>
        </p:blipFill>
        <p:spPr>
          <a:xfrm>
            <a:off x="838080" y="2666880"/>
            <a:ext cx="2895840" cy="484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846720" y="4267080"/>
            <a:ext cx="1651320" cy="459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Flash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9528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lash file has been embedded into the PowerPoint slide wherever this icon is displayed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files are not edi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lash%20icon" descr=""/>
          <p:cNvPicPr/>
          <p:nvPr/>
        </p:nvPicPr>
        <p:blipFill>
          <a:blip r:embed="rId3"/>
          <a:stretch/>
        </p:blipFill>
        <p:spPr>
          <a:xfrm>
            <a:off x="6019920" y="5334120"/>
            <a:ext cx="51120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teacher's%20icon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5461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831960"/>
            <a:ext cx="8326440" cy="559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160" y="10494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el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185904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 gaso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7273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pht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0640" y="317988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ffin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ros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4600" y="404820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esel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880" y="4568760"/>
            <a:ext cx="165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e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ubric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2800" y="577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t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32080" y="831960"/>
            <a:ext cx="592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rned in the refinery to fuel the distillation process, sold as LPG, purified and sold a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bottled camping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32080" y="1998720"/>
            <a:ext cx="63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Fuel for ca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motorcycles, also used to make chemic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28840" y="2760840"/>
            <a:ext cx="30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d to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ke chemica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32080" y="3281400"/>
            <a:ext cx="640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el for greenhouse heaters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jet engin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manufacture of chemic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29560" y="413064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el for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lorri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ra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32080" y="4782960"/>
            <a:ext cx="594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el for the heating systems of large buildings, fuel for ships,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lubricating oi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7400" y="5862600"/>
            <a:ext cx="33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ofing,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oad surfa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9840" y="1884240"/>
            <a:ext cx="835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7760" y="2730600"/>
            <a:ext cx="835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7760" y="3192480"/>
            <a:ext cx="835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9200" y="4029120"/>
            <a:ext cx="835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9200" y="4576680"/>
            <a:ext cx="835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5680" y="5769000"/>
            <a:ext cx="835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73400" y="846000"/>
            <a:ext cx="0" cy="555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441972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s of each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02920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rning hydrocarb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761760"/>
            <a:ext cx="76280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he apparatus below is used to test the products of combustion of a hydrocarb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6360" y="5889600"/>
            <a:ext cx="73663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y hydrocarbon + oxygen 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ater + carbon di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combustion2" descr=""/>
          <p:cNvPicPr/>
          <p:nvPr/>
        </p:nvPicPr>
        <p:blipFill>
          <a:blip r:embed="rId1"/>
          <a:stretch/>
        </p:blipFill>
        <p:spPr>
          <a:xfrm>
            <a:off x="801720" y="2033640"/>
            <a:ext cx="7886520" cy="21351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 flipH="1" flipV="1">
            <a:off x="6883200" y="3607920"/>
            <a:ext cx="461880" cy="303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45440" y="2727360"/>
            <a:ext cx="272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71960" y="2419200"/>
            <a:ext cx="10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2760" y="4179960"/>
            <a:ext cx="21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dle wax is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drocarbon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08720" y="2882880"/>
            <a:ext cx="80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c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35200" y="3551400"/>
            <a:ext cx="33336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42920" y="4397400"/>
            <a:ext cx="30855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quid col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tested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hydrous cobalt chlor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per (blue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nk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444920" y="3940200"/>
            <a:ext cx="10008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40384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e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62120" y="2819520"/>
            <a:ext cx="6324480" cy="9284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hich is a correct statement about crude o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 mixture of carbohydr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ormed by the decay of dead sea cr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nsist of a mixture of very large molec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s purified in an oil r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62120" y="4078440"/>
            <a:ext cx="7581960" cy="9284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hich is a correct statement about fra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istill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il is separated into fractions with the same size molec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il is separated into fractions with the same dens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il is separated into fractions with similar size molec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il is separated into alkanes and alke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4267080"/>
            <a:ext cx="7467480" cy="5526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hich is a correct order for these fractions working down from the top of the colum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uel gas, kerosine, petrol, diesel, bitu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uel gas, diesel, kerosine, petrol, bitu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uel gas, petrol, diesel, kerosine, bitu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uel gas, petrol, kerosine, diesel, bitu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762120" y="3657600"/>
            <a:ext cx="4038480" cy="5526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hich of these is a true statement about the changes that occur as hydrocarbon molecules get larg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UcPeriod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oiling point decre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UcPeriod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iscosity incre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UcPeriod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lammability incre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UcPeriod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ransparency incre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35268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rude 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42080" cy="30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Crude oil is a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mixture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It contains hundreds of different compounds. Some are small but most are lar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Nearly all of these compounds contain carbon and hydrogen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They are called hydrocarb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49320" y="4564080"/>
            <a:ext cx="6518160" cy="947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ydrocarbons are molecules that contain carbon and hydrogen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10552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importance of 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hese hydrocarbons are vital to our way of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We use them as highly portable fuels for many forms of trans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We also use them as raw materials from which a huge range of useful everyday substances are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572080" y="3549600"/>
            <a:ext cx="3224160" cy="2033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543640" y="1768320"/>
            <a:ext cx="32590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586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though we can get useful substances from oil, crude oil itself has no 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order to make crude oil into useful substances we first have to separate the mixture into molecules of simila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done in an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il refiner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11480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king oil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58128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crude o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6962760" cy="19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Crude oil is a mixture of different sized hydrocarbons. The exact composition depends upon where the oil comes from but typically it contains a lot of big molec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14520" y="1843200"/>
          <a:ext cx="7324560" cy="45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843200"/>
                    <a:ext cx="732456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108400" y="3078000"/>
            <a:ext cx="20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mall molec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31040" y="4051440"/>
            <a:ext cx="204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um molec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3657600"/>
            <a:ext cx="18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 molec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95288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actional Dis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578484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Crude oil is split into fractions containing similar sized molecules using </a:t>
            </a:r>
            <a:r>
              <a:rPr b="0" lang="en-GB" sz="2400" spc="-1" strike="noStrike">
                <a:solidFill>
                  <a:srgbClr val="ff00ff"/>
                </a:solidFill>
                <a:latin typeface="Arial"/>
              </a:rPr>
              <a:t>fractional distillation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he oil is heated until it vapori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It then passes up a tall tower that is hot at the bottom but cool at the t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As the vapour passes up this tower the molecules cool and condense back to 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553080" y="1087560"/>
            <a:ext cx="1160280" cy="4760640"/>
            <a:chOff x="6553080" y="1087560"/>
            <a:chExt cx="1160280" cy="4760640"/>
          </a:xfrm>
        </p:grpSpPr>
        <p:sp>
          <p:nvSpPr>
            <p:cNvPr id="77" name=""/>
            <p:cNvSpPr/>
            <p:nvPr/>
          </p:nvSpPr>
          <p:spPr>
            <a:xfrm>
              <a:off x="6784560" y="1087560"/>
              <a:ext cx="638280" cy="4760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99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73560" y="1189080"/>
              <a:ext cx="319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943320" y="4325760"/>
              <a:ext cx="3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o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53080" y="5530680"/>
              <a:ext cx="27612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38680" y="5283360"/>
              <a:ext cx="27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0240" y="1552680"/>
              <a:ext cx="274680" cy="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838080" y="1447560"/>
            <a:ext cx="419112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Copy the column and arrange the fractions in the right order next to the arr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87840" y="3948120"/>
            <a:ext cx="412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39880" y="2614680"/>
          <a:ext cx="4064040" cy="36939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iling 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os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- 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 – 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- 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u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 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ow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bricating o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-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6" name=""/>
          <p:cNvGrpSpPr/>
          <p:nvPr/>
        </p:nvGrpSpPr>
        <p:grpSpPr>
          <a:xfrm>
            <a:off x="5689440" y="1290600"/>
            <a:ext cx="1182600" cy="4760640"/>
            <a:chOff x="5689440" y="1290600"/>
            <a:chExt cx="1182600" cy="4760640"/>
          </a:xfrm>
        </p:grpSpPr>
        <p:grpSp>
          <p:nvGrpSpPr>
            <p:cNvPr id="87" name=""/>
            <p:cNvGrpSpPr/>
            <p:nvPr/>
          </p:nvGrpSpPr>
          <p:grpSpPr>
            <a:xfrm>
              <a:off x="5689440" y="1290600"/>
              <a:ext cx="1160280" cy="4760640"/>
              <a:chOff x="5689440" y="1290600"/>
              <a:chExt cx="1160280" cy="4760640"/>
            </a:xfrm>
          </p:grpSpPr>
          <p:sp>
            <p:nvSpPr>
              <p:cNvPr id="88" name=""/>
              <p:cNvSpPr/>
              <p:nvPr/>
            </p:nvSpPr>
            <p:spPr>
              <a:xfrm>
                <a:off x="5920920" y="1290600"/>
                <a:ext cx="638280" cy="4760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cc99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109920" y="1392120"/>
                <a:ext cx="3193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coo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079680" y="4528800"/>
                <a:ext cx="319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ho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689440" y="5733720"/>
                <a:ext cx="276120" cy="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75040" y="5486400"/>
                <a:ext cx="274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546600" y="1755720"/>
                <a:ext cx="274680" cy="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6575040" y="2338200"/>
              <a:ext cx="29052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81520" y="3041280"/>
              <a:ext cx="29052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32200" y="3759120"/>
              <a:ext cx="290520" cy="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38680" y="4551120"/>
              <a:ext cx="29052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951600" y="1481040"/>
            <a:ext cx="126360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el 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02360" y="2039760"/>
            <a:ext cx="13082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trole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94440" y="2801880"/>
            <a:ext cx="13082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ro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00920" y="3505320"/>
            <a:ext cx="13078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59600" y="4334040"/>
            <a:ext cx="13082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b. 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37280" y="5256360"/>
            <a:ext cx="13082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t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95288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actional Dis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ShockwaveFlash1"/>
          <p:cNvGraphicFramePr/>
          <p:nvPr/>
        </p:nvGraphicFramePr>
        <p:xfrm>
          <a:off x="1066680" y="914400"/>
          <a:ext cx="716292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4400"/>
                    <a:ext cx="7162920" cy="5410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07" name="flash%20icon" descr=""/>
          <p:cNvPicPr/>
          <p:nvPr/>
        </p:nvPicPr>
        <p:blipFill>
          <a:blip r:embed="rId3"/>
          <a:stretch/>
        </p:blipFill>
        <p:spPr>
          <a:xfrm>
            <a:off x="746136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0"/>
            <a:ext cx="495288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actional Dis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17:12:25Z</dcterms:created>
  <dc:creator>Boardworks Ltd</dc:creator>
  <dc:description/>
  <dc:language>en-US</dc:language>
  <cp:lastModifiedBy>Julie Kilcoyne</cp:lastModifiedBy>
  <dcterms:modified xsi:type="dcterms:W3CDTF">2003-04-24T08:38:00Z</dcterms:modified>
  <cp:revision>45</cp:revision>
  <dc:subject/>
  <dc:title>No Slide Title</dc:title>
</cp:coreProperties>
</file>